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43D-F2AA-46B9-AB5A-3DF9CBEA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32F-5A55-4F1C-9FC6-B380AF98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1FA-C4E2-40CE-B418-6DBB024E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8D4-22E8-437F-B6AA-2D760563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94CF-A273-46AC-B8AA-FFCBF007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FB7C-7A5A-4124-AF94-87FE7748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BB07-ED32-4CCD-B357-D4AD62BC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8A4B-58ED-4C4F-B5A3-BB219FA8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FB60-4E5B-44EF-96DB-CA371454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6283-2A12-4D31-A6CB-1BF7B32F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66BC-0561-455A-A224-B0B43873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52C-FDA5-4CE8-A567-EE60894A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843F-C4D6-47AC-8F3D-BA48B579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8E7E-E173-4A94-B818-A1BF84DA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80C6-4B82-4676-9D31-0A49BE5B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72BC-45C0-4DE4-A85B-DC064447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5D81-1C82-4D49-B581-D47B1D80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9DC-1350-4070-8A52-A0B14B60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744-73F3-4D26-9CF5-B06AE5E1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3F0-BF24-489D-AFA1-DBBB39B4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D51-D907-417D-9FBF-68E7D61B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A35-6FD2-4AB7-9F60-DCF41C3E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57E-C0A8-46BF-8E2D-C2BB63A5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651-1B91-451F-99F2-F714678C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7507-41AC-4ED4-A3F1-7D51FE9E2BC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F30A-3DDB-471E-9234-99087C80429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un.es/index.php?id=91" TargetMode="External"/><Relationship Id="rId2" Type="http://schemas.openxmlformats.org/officeDocument/2006/relationships/hyperlink" Target="http://www.cun.es/index.php?id=91" TargetMode="External"/><Relationship Id="rId3" Type="http://schemas.openxmlformats.org/officeDocument/2006/relationships/hyperlink" Target="http://www.cun.es/index.php?id=91" TargetMode="External"/><Relationship Id="rId4" Type="http://schemas.openxmlformats.org/officeDocument/2006/relationships/hyperlink" Target="http://www.cun.es/index.php?id=91" TargetMode="External"/><Relationship Id="rId5" Type="http://schemas.openxmlformats.org/officeDocument/2006/relationships/hyperlink" Target="http://www.cun.es/index.php?id=91" TargetMode="External"/><Relationship Id="rId6" Type="http://schemas.openxmlformats.org/officeDocument/2006/relationships/hyperlink" Target="http://www.buenasalud.com/dic/" TargetMode="External"/><Relationship Id="rId7" Type="http://schemas.openxmlformats.org/officeDocument/2006/relationships/hyperlink" Target="http://www.buenasalud.com/dic/" TargetMode="External"/><Relationship Id="rId8" Type="http://schemas.openxmlformats.org/officeDocument/2006/relationships/hyperlink" Target="http://www.buenasalud.com/dic/" TargetMode="External"/><Relationship Id="rId9" Type="http://schemas.openxmlformats.org/officeDocument/2006/relationships/hyperlink" Target="http://www.buenasalud.com/dic/" TargetMode="External"/><Relationship Id="rId10" Type="http://schemas.openxmlformats.org/officeDocument/2006/relationships/hyperlink" Target="http://www.campusred.net/campusalud/listados/lista_glosario.asp" TargetMode="External"/><Relationship Id="rId11" Type="http://schemas.openxmlformats.org/officeDocument/2006/relationships/hyperlink" Target="http://www.campusred.net/campusalud/listados/lista_glosario.asp" TargetMode="External"/><Relationship Id="rId12" Type="http://schemas.openxmlformats.org/officeDocument/2006/relationships/hyperlink" Target="http://www.campusred.net/campusalud/listados/lista_glosario.asp" TargetMode="External"/><Relationship Id="rId13" Type="http://schemas.openxmlformats.org/officeDocument/2006/relationships/hyperlink" Target="http://www.campusred.net/campusalud/listados/lista_glosario.asp" TargetMode="External"/><Relationship Id="rId14" Type="http://schemas.openxmlformats.org/officeDocument/2006/relationships/hyperlink" Target="http://www.campusred.net/campusalud/listados/lista_glosario.asp" TargetMode="External"/><Relationship Id="rId15" Type="http://schemas.openxmlformats.org/officeDocument/2006/relationships/hyperlink" Target="http://www.campusred.net/campusalud/listados/lista_glosario.asp" TargetMode="External"/><Relationship Id="rId16" Type="http://schemas.openxmlformats.org/officeDocument/2006/relationships/hyperlink" Target="http://www.campusred.net/campusalud/listados/lista_glosario.asp" TargetMode="External"/><Relationship Id="rId17" Type="http://schemas.openxmlformats.org/officeDocument/2006/relationships/hyperlink" Target="http://www.nlm.nih.gov/medlineplus/spanish/encyclopedia.html" TargetMode="External"/><Relationship Id="rId18" Type="http://schemas.openxmlformats.org/officeDocument/2006/relationships/hyperlink" Target="http://www.nlm.nih.gov/medlineplus/spanish/encyclopedia.html" TargetMode="External"/><Relationship Id="rId19" Type="http://schemas.openxmlformats.org/officeDocument/2006/relationships/hyperlink" Target="http://www.nlm.nih.gov/medlineplus/spanish/encyclopedia.html" TargetMode="External"/><Relationship Id="rId20" Type="http://schemas.openxmlformats.org/officeDocument/2006/relationships/hyperlink" Target="http://www.nlm.nih.gov/medlineplus/spanish/encyclopedia.html" TargetMode="External"/><Relationship Id="rId21" Type="http://schemas.openxmlformats.org/officeDocument/2006/relationships/hyperlink" Target="http://www.nlm.nih.gov/medlineplus/spanish/encyclopedia.html" TargetMode="External"/><Relationship Id="rId22" Type="http://schemas.openxmlformats.org/officeDocument/2006/relationships/hyperlink" Target="http://www.nlm.nih.gov/medlineplus/spanish/encyclopedia.html" TargetMode="External"/><Relationship Id="rId23" Type="http://schemas.openxmlformats.org/officeDocument/2006/relationships/hyperlink" Target="http://www.nlm.nih.gov/medlineplus/spanish/encyclopedia.html" TargetMode="External"/><Relationship Id="rId24" Type="http://schemas.openxmlformats.org/officeDocument/2006/relationships/hyperlink" Target="http://www.nlm.nih.gov/medlineplus/spanish/encyclopedia.html" TargetMode="External"/><Relationship Id="rId25" Type="http://schemas.openxmlformats.org/officeDocument/2006/relationships/hyperlink" Target="http://www.nlm.nih.gov/medlineplus/spanish/encyclopedia.html" TargetMode="External"/><Relationship Id="rId26" Type="http://schemas.openxmlformats.org/officeDocument/2006/relationships/hyperlink" Target="http://www.averamckennan.org/ahp/healthinfo/enciclopedia.aspx" TargetMode="External"/><Relationship Id="rId27" Type="http://schemas.openxmlformats.org/officeDocument/2006/relationships/hyperlink" Target="http://www.averamckennan.org/ahp/healthinfo/enciclopedia.aspx" TargetMode="External"/><Relationship Id="rId28" Type="http://schemas.openxmlformats.org/officeDocument/2006/relationships/hyperlink" Target="http://www.averamckennan.org/ahp/healthinfo/enciclopedia.aspx" TargetMode="External"/><Relationship Id="rId29" Type="http://schemas.openxmlformats.org/officeDocument/2006/relationships/hyperlink" Target="http://www.averamckennan.org/ahp/healthinfo/enciclopedia.aspx" TargetMode="External"/><Relationship Id="rId30" Type="http://schemas.openxmlformats.org/officeDocument/2006/relationships/hyperlink" Target="http://www.averamckennan.org/ahp/healthinfo/enciclopedia.aspx" TargetMode="External"/><Relationship Id="rId31" Type="http://schemas.openxmlformats.org/officeDocument/2006/relationships/hyperlink" Target="http://www.averamckennan.org/ahp/healthinfo/enciclopedia.aspx" TargetMode="External"/><Relationship Id="rId32" Type="http://schemas.openxmlformats.org/officeDocument/2006/relationships/hyperlink" Target="http://www.averamckennan.org/ahp/healthinfo/enciclopedia.aspx" TargetMode="External"/><Relationship Id="rId33" Type="http://schemas.openxmlformats.org/officeDocument/2006/relationships/hyperlink" Target="http://www.averamckennan.org/ahp/healthinfo/enciclopedia.aspx" TargetMode="External"/><Relationship Id="rId34" Type="http://schemas.openxmlformats.org/officeDocument/2006/relationships/hyperlink" Target="http://www.averamckennan.org/ahp/healthinfo/enciclopedia.aspx" TargetMode="External"/><Relationship Id="rId3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omedic.ro/" TargetMode="External"/><Relationship Id="rId2" Type="http://schemas.openxmlformats.org/officeDocument/2006/relationships/hyperlink" Target="http://www.romedic.ro/" TargetMode="External"/><Relationship Id="rId3" Type="http://schemas.openxmlformats.org/officeDocument/2006/relationships/hyperlink" Target="http://www.romedic.ro/" TargetMode="External"/><Relationship Id="rId4" Type="http://schemas.openxmlformats.org/officeDocument/2006/relationships/hyperlink" Target="http://www.romedic.ro/" TargetMode="External"/><Relationship Id="rId5" Type="http://schemas.openxmlformats.org/officeDocument/2006/relationships/hyperlink" Target="http://www.sfatulmedicului.ro/" TargetMode="External"/><Relationship Id="rId6" Type="http://schemas.openxmlformats.org/officeDocument/2006/relationships/hyperlink" Target="http://www.sfatulmedicului.ro/" TargetMode="External"/><Relationship Id="rId7" Type="http://schemas.openxmlformats.org/officeDocument/2006/relationships/hyperlink" Target="http://www.pcfarm.ro/articole.php" TargetMode="External"/><Relationship Id="rId8" Type="http://schemas.openxmlformats.org/officeDocument/2006/relationships/hyperlink" Target="http://www.pcfarm.ro/articole.php" TargetMode="External"/><Relationship Id="rId9" Type="http://schemas.openxmlformats.org/officeDocument/2006/relationships/hyperlink" Target="http://www.pcfarm.ro/articole.php" TargetMode="External"/><Relationship Id="rId10" Type="http://schemas.openxmlformats.org/officeDocument/2006/relationships/hyperlink" Target="http://www.pcfarm.ro/articole.php" TargetMode="External"/><Relationship Id="rId11" Type="http://schemas.openxmlformats.org/officeDocument/2006/relationships/hyperlink" Target="http://www.pcfarm.ro/articole.php" TargetMode="External"/><Relationship Id="rId12" Type="http://schemas.openxmlformats.org/officeDocument/2006/relationships/hyperlink" Target="http://www.emedonline.ro/" TargetMode="External"/><Relationship Id="rId13" Type="http://schemas.openxmlformats.org/officeDocument/2006/relationships/hyperlink" Target="http://www.emedonline.ro/" TargetMode="External"/><Relationship Id="rId14" Type="http://schemas.openxmlformats.org/officeDocument/2006/relationships/hyperlink" Target="http://www.emedonline.ro/" TargetMode="External"/><Relationship Id="rId15" Type="http://schemas.openxmlformats.org/officeDocument/2006/relationships/hyperlink" Target="http://www.emedonline.ro/" TargetMode="External"/><Relationship Id="rId16" Type="http://schemas.openxmlformats.org/officeDocument/2006/relationships/hyperlink" Target="http://www.sfatulmedicului.ro/Dictionar_medical/" TargetMode="External"/><Relationship Id="rId17" Type="http://schemas.openxmlformats.org/officeDocument/2006/relationships/hyperlink" Target="http://www.sfatulmedicului.ro/Dictionar_medical/" TargetMode="External"/><Relationship Id="rId18" Type="http://schemas.openxmlformats.org/officeDocument/2006/relationships/hyperlink" Target="http://www.sfatulmedicului.ro/Dictionar_medical/" TargetMode="External"/><Relationship Id="rId19" Type="http://schemas.openxmlformats.org/officeDocument/2006/relationships/hyperlink" Target="http://www.sfatulmedicului.ro/Dictionar_medical/" TargetMode="External"/><Relationship Id="rId20" Type="http://schemas.openxmlformats.org/officeDocument/2006/relationships/hyperlink" Target="http://www.sfatulmedicului.ro/Dictionar_medical/" TargetMode="External"/><Relationship Id="rId21" Type="http://schemas.openxmlformats.org/officeDocument/2006/relationships/hyperlink" Target="http://www.sfatulmedicului.ro/Dictionar_medical/" TargetMode="External"/><Relationship Id="rId22" Type="http://schemas.openxmlformats.org/officeDocument/2006/relationships/hyperlink" Target="http://www.medikal.ro/dictionarmedical.html" TargetMode="External"/><Relationship Id="rId23" Type="http://schemas.openxmlformats.org/officeDocument/2006/relationships/hyperlink" Target="http://www.medikal.ro/dictionarmedical.html" TargetMode="External"/><Relationship Id="rId24" Type="http://schemas.openxmlformats.org/officeDocument/2006/relationships/hyperlink" Target="http://www.medikal.ro/dictionarmedical.html" TargetMode="External"/><Relationship Id="rId25" Type="http://schemas.openxmlformats.org/officeDocument/2006/relationships/hyperlink" Target="http://www.medikal.ro/dictionarmedical.html" TargetMode="External"/><Relationship Id="rId26" Type="http://schemas.openxmlformats.org/officeDocument/2006/relationships/hyperlink" Target="http://www.medikal.ro/dictionarmedical.html" TargetMode="External"/><Relationship Id="rId27" Type="http://schemas.openxmlformats.org/officeDocument/2006/relationships/hyperlink" Target="http://www.dmo.ro/" TargetMode="External"/><Relationship Id="rId28" Type="http://schemas.openxmlformats.org/officeDocument/2006/relationships/hyperlink" Target="http://www.dmo.ro/" TargetMode="External"/><Relationship Id="rId29" Type="http://schemas.openxmlformats.org/officeDocument/2006/relationships/hyperlink" Target="http://www.dmo.ro/" TargetMode="External"/><Relationship Id="rId30" Type="http://schemas.openxmlformats.org/officeDocument/2006/relationships/hyperlink" Target="http://www.dmo.ro/" TargetMode="External"/><Relationship Id="rId31" Type="http://schemas.openxmlformats.org/officeDocument/2006/relationships/hyperlink" Target="http://www.healthy.ro/articol/Enciclopedie-medicala" TargetMode="External"/><Relationship Id="rId32" Type="http://schemas.openxmlformats.org/officeDocument/2006/relationships/hyperlink" Target="http://www.healthy.ro/articol/Enciclopedie-medicala" TargetMode="External"/><Relationship Id="rId33" Type="http://schemas.openxmlformats.org/officeDocument/2006/relationships/hyperlink" Target="http://www.healthy.ro/articol/Enciclopedie-medicala" TargetMode="External"/><Relationship Id="rId34" Type="http://schemas.openxmlformats.org/officeDocument/2006/relationships/hyperlink" Target="http://www.healthy.ro/articol/Enciclopedie-medicala" TargetMode="External"/><Relationship Id="rId35" Type="http://schemas.openxmlformats.org/officeDocument/2006/relationships/hyperlink" Target="http://www.healthy.ro/articol/Enciclopedie-medicala" TargetMode="External"/><Relationship Id="rId36" Type="http://schemas.openxmlformats.org/officeDocument/2006/relationships/hyperlink" Target="http://www.healthy.ro/articol/Enciclopedie-medicala" TargetMode="External"/><Relationship Id="rId37" Type="http://schemas.openxmlformats.org/officeDocument/2006/relationships/hyperlink" Target="http://www.healthy.ro/articol/Enciclopedie-medicala" TargetMode="External"/><Relationship Id="rId38" Type="http://schemas.openxmlformats.org/officeDocument/2006/relationships/hyperlink" Target="http://www.healthy.ro/articol/Enciclopedie-medicala" TargetMode="External"/><Relationship Id="rId39" Type="http://schemas.openxmlformats.org/officeDocument/2006/relationships/hyperlink" Target="http://www.healthy.ro/articol/Enciclopedie-medicala" TargetMode="External"/><Relationship Id="rId4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ap.es/index.html" TargetMode="External"/><Relationship Id="rId2" Type="http://schemas.openxmlformats.org/officeDocument/2006/relationships/hyperlink" Target="http://www.map.es/index.html" TargetMode="External"/><Relationship Id="rId3" Type="http://schemas.openxmlformats.org/officeDocument/2006/relationships/hyperlink" Target="http://www.map.es/index.html" TargetMode="External"/><Relationship Id="rId4" Type="http://schemas.openxmlformats.org/officeDocument/2006/relationships/hyperlink" Target="http://www.map.es/index.html" TargetMode="External"/><Relationship Id="rId5" Type="http://schemas.openxmlformats.org/officeDocument/2006/relationships/hyperlink" Target="http://www.map.es/index.html" TargetMode="External"/><Relationship Id="rId6" Type="http://schemas.openxmlformats.org/officeDocument/2006/relationships/hyperlink" Target="http://www.060.es/" TargetMode="External"/><Relationship Id="rId7" Type="http://schemas.openxmlformats.org/officeDocument/2006/relationships/hyperlink" Target="http://www.060.es/" TargetMode="External"/><Relationship Id="rId8" Type="http://schemas.openxmlformats.org/officeDocument/2006/relationships/hyperlink" Target="http://www.060.es/guia_del_estado/index-ides-idweb.html" TargetMode="External"/><Relationship Id="rId9" Type="http://schemas.openxmlformats.org/officeDocument/2006/relationships/hyperlink" Target="http://www.060.es/guia_del_estado/index-ides-idweb.html" TargetMode="External"/><Relationship Id="rId10" Type="http://schemas.openxmlformats.org/officeDocument/2006/relationships/hyperlink" Target="http://www.060.es/guia_del_estado/index-ides-idweb.html" TargetMode="External"/><Relationship Id="rId11" Type="http://schemas.openxmlformats.org/officeDocument/2006/relationships/hyperlink" Target="http://www.060.es/guia_del_estado/index-ides-idweb.html" TargetMode="External"/><Relationship Id="rId12" Type="http://schemas.openxmlformats.org/officeDocument/2006/relationships/hyperlink" Target="http://www.060.es/guia_del_estado/index-ides-idweb.html" TargetMode="External"/><Relationship Id="rId13" Type="http://schemas.openxmlformats.org/officeDocument/2006/relationships/hyperlink" Target="http://www.060.es/guia_del_estado/index-ides-idweb.html" TargetMode="External"/><Relationship Id="rId14" Type="http://schemas.openxmlformats.org/officeDocument/2006/relationships/hyperlink" Target="http://www.060.es/guia_del_estado/index-ides-idweb.html" TargetMode="External"/><Relationship Id="rId15" Type="http://schemas.openxmlformats.org/officeDocument/2006/relationships/hyperlink" Target="http://www.060.es/guia_del_estado/index-ides-idweb.html" TargetMode="External"/><Relationship Id="rId16" Type="http://schemas.openxmlformats.org/officeDocument/2006/relationships/hyperlink" Target="http://www.060.es/guia_del_estado/index-ides-idweb.html" TargetMode="External"/><Relationship Id="rId17" Type="http://schemas.openxmlformats.org/officeDocument/2006/relationships/hyperlink" Target="http://www.060.es/guia_del_estado/index-ides-idweb.html" TargetMode="External"/><Relationship Id="rId18" Type="http://schemas.openxmlformats.org/officeDocument/2006/relationships/hyperlink" Target="http://www.060.es/guia_del_estado/index-ides-idweb.html" TargetMode="External"/><Relationship Id="rId19" Type="http://schemas.openxmlformats.org/officeDocument/2006/relationships/hyperlink" Target="http://www.gobcantabria.es/portal/page?_pageid=33,50875&amp;_dad=interportal&amp;_schema=INTERPORTAL" TargetMode="External"/><Relationship Id="rId20" Type="http://schemas.openxmlformats.org/officeDocument/2006/relationships/hyperlink" Target="http://www.gobcantabria.es/portal/page?_pageid=33,50875&amp;_dad=interportal&amp;_schema=INTERPORTAL" TargetMode="External"/><Relationship Id="rId21" Type="http://schemas.openxmlformats.org/officeDocument/2006/relationships/hyperlink" Target="http://www.gobcantabria.es/portal/page?_pageid=33,50875&amp;_dad=interportal&amp;_schema=INTERPORTAL" TargetMode="External"/><Relationship Id="rId22" Type="http://schemas.openxmlformats.org/officeDocument/2006/relationships/hyperlink" Target="http://www.gobcantabria.es/portal/page?_pageid=33,50875&amp;_dad=interportal&amp;_schema=INTERPORTAL" TargetMode="External"/><Relationship Id="rId23" Type="http://schemas.openxmlformats.org/officeDocument/2006/relationships/hyperlink" Target="http://www.gobcantabria.es/portal/page?_pageid=33,50875&amp;_dad=interportal&amp;_schema=INTERPORTAL" TargetMode="External"/><Relationship Id="rId24" Type="http://schemas.openxmlformats.org/officeDocument/2006/relationships/hyperlink" Target="http://www.gobcantabria.es/portal/page?_pageid=33,50875&amp;_dad=interportal&amp;_schema=INTERPORTAL" TargetMode="External"/><Relationship Id="rId25" Type="http://schemas.openxmlformats.org/officeDocument/2006/relationships/hyperlink" Target="http://www.gobcantabria.es/portal/page?_pageid=33,50875&amp;_dad=interportal&amp;_schema=INTERPORTAL" TargetMode="External"/><Relationship Id="rId26" Type="http://schemas.openxmlformats.org/officeDocument/2006/relationships/hyperlink" Target="http://www.gobcantabria.es/portal/page?_pageid=33,50875&amp;_dad=interportal&amp;_schema=INTERPORTAL" TargetMode="External"/><Relationship Id="rId27" Type="http://schemas.openxmlformats.org/officeDocument/2006/relationships/hyperlink" Target="http://www.gobcantabria.es/portal/page?_pageid=33,50875&amp;_dad=interportal&amp;_schema=INTERPORTAL" TargetMode="External"/><Relationship Id="rId2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urseguvern.ro/download/Prezentarea%20administratiei%20publice%20romanesti.pdf" TargetMode="External"/><Relationship Id="rId2" Type="http://schemas.openxmlformats.org/officeDocument/2006/relationships/hyperlink" Target="http://www.burseguvern.ro/download/Prezentarea%20administratiei%20publice%20romanesti.pdf" TargetMode="External"/><Relationship Id="rId3" Type="http://schemas.openxmlformats.org/officeDocument/2006/relationships/hyperlink" Target="http://www.burseguvern.ro/download/Prezentarea%20administratiei%20publice%20romanesti.pdf" TargetMode="External"/><Relationship Id="rId4" Type="http://schemas.openxmlformats.org/officeDocument/2006/relationships/hyperlink" Target="http://www.burseguvern.ro/download/Prezentarea%20administratiei%20publice%20romanesti.pdf" TargetMode="External"/><Relationship Id="rId5" Type="http://schemas.openxmlformats.org/officeDocument/2006/relationships/hyperlink" Target="http://www.burseguvern.ro/download/Prezentarea%20administratiei%20publice%20romanesti.pdf" TargetMode="External"/><Relationship Id="rId6" Type="http://schemas.openxmlformats.org/officeDocument/2006/relationships/hyperlink" Target="http://www.burseguvern.ro/download/Prezentarea%20administratiei%20publice%20romanesti.pdf" TargetMode="External"/><Relationship Id="rId7" Type="http://schemas.openxmlformats.org/officeDocument/2006/relationships/hyperlink" Target="http://www.burseguvern.ro/download/Prezentarea%20administratiei%20publice%20romanesti.pdf" TargetMode="External"/><Relationship Id="rId8" Type="http://schemas.openxmlformats.org/officeDocument/2006/relationships/hyperlink" Target="http://www.burseguvern.ro/download/Prezentarea%20administratiei%20publice%20romanesti.pdf" TargetMode="External"/><Relationship Id="rId9" Type="http://schemas.openxmlformats.org/officeDocument/2006/relationships/hyperlink" Target="http://www.burseguvern.ro/download/Prezentarea%20administratiei%20publice%20romanesti.pdf" TargetMode="External"/><Relationship Id="rId10" Type="http://schemas.openxmlformats.org/officeDocument/2006/relationships/hyperlink" Target="http://www.mapl.gov.md/" TargetMode="External"/><Relationship Id="rId11" Type="http://schemas.openxmlformats.org/officeDocument/2006/relationships/hyperlink" Target="http://www.mapl.gov.md/" TargetMode="External"/><Relationship Id="rId12" Type="http://schemas.openxmlformats.org/officeDocument/2006/relationships/hyperlink" Target="http://www.mira.gov.ro/Home/index.htm" TargetMode="External"/><Relationship Id="rId13" Type="http://schemas.openxmlformats.org/officeDocument/2006/relationships/hyperlink" Target="http://www.dictionar.1web.ro/" TargetMode="External"/><Relationship Id="rId14" Type="http://schemas.openxmlformats.org/officeDocument/2006/relationships/hyperlink" Target="http://www.dictionar.1web.ro/" TargetMode="External"/><Relationship Id="rId15" Type="http://schemas.openxmlformats.org/officeDocument/2006/relationships/hyperlink" Target="http://www.dictionar.1web.ro/" TargetMode="External"/><Relationship Id="rId16" Type="http://schemas.openxmlformats.org/officeDocument/2006/relationships/hyperlink" Target="http://www.dictionar.1web.ro/" TargetMode="External"/><Relationship Id="rId17" Type="http://schemas.openxmlformats.org/officeDocument/2006/relationships/hyperlink" Target="http://www.dictionar.1web.ro/" TargetMode="External"/><Relationship Id="rId18" Type="http://schemas.openxmlformats.org/officeDocument/2006/relationships/hyperlink" Target="http://www.dictionar.1web.ro/" TargetMode="External"/><Relationship Id="rId1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orticolegal.com/" TargetMode="External"/><Relationship Id="rId2" Type="http://schemas.openxmlformats.org/officeDocument/2006/relationships/hyperlink" Target="http://www.porticolegal.com/" TargetMode="External"/><Relationship Id="rId3" Type="http://schemas.openxmlformats.org/officeDocument/2006/relationships/hyperlink" Target="http://www.iabogado.com/" TargetMode="External"/><Relationship Id="rId4" Type="http://schemas.openxmlformats.org/officeDocument/2006/relationships/hyperlink" Target="http://www.iabogado.com/" TargetMode="External"/><Relationship Id="rId5" Type="http://schemas.openxmlformats.org/officeDocument/2006/relationships/hyperlink" Target="http://www.iabogado.com/" TargetMode="External"/><Relationship Id="rId6" Type="http://schemas.openxmlformats.org/officeDocument/2006/relationships/hyperlink" Target="http://www.iabogado.com/" TargetMode="External"/><Relationship Id="rId7" Type="http://schemas.openxmlformats.org/officeDocument/2006/relationships/hyperlink" Target="http://www.lexjuridica.com/" TargetMode="External"/><Relationship Id="rId8" Type="http://schemas.openxmlformats.org/officeDocument/2006/relationships/hyperlink" Target="http://www.lexjuridica.com/" TargetMode="External"/><Relationship Id="rId9" Type="http://schemas.openxmlformats.org/officeDocument/2006/relationships/hyperlink" Target="http://www.lexjuridica.com/" TargetMode="External"/><Relationship Id="rId10" Type="http://schemas.openxmlformats.org/officeDocument/2006/relationships/hyperlink" Target="http://www.lexjuridica.com/" TargetMode="External"/><Relationship Id="rId11" Type="http://schemas.openxmlformats.org/officeDocument/2006/relationships/hyperlink" Target="http://www.conpapeles.com/glosario_juridico.php" TargetMode="External"/><Relationship Id="rId12" Type="http://schemas.openxmlformats.org/officeDocument/2006/relationships/hyperlink" Target="http://www.conpapeles.com/glosario_juridico.php" TargetMode="External"/><Relationship Id="rId13" Type="http://schemas.openxmlformats.org/officeDocument/2006/relationships/hyperlink" Target="http://www.conpapeles.com/glosario_juridico.php" TargetMode="External"/><Relationship Id="rId14" Type="http://schemas.openxmlformats.org/officeDocument/2006/relationships/hyperlink" Target="http://www.conpapeles.com/glosario_juridico.php" TargetMode="External"/><Relationship Id="rId15" Type="http://schemas.openxmlformats.org/officeDocument/2006/relationships/hyperlink" Target="http://www.conpapeles.com/glosario_juridico.php" TargetMode="External"/><Relationship Id="rId16" Type="http://schemas.openxmlformats.org/officeDocument/2006/relationships/hyperlink" Target="http://www.mir.es/SGACAVT/extranje/" TargetMode="External"/><Relationship Id="rId17" Type="http://schemas.openxmlformats.org/officeDocument/2006/relationships/hyperlink" Target="http://www.mir.es/SGACAVT/extranje/" TargetMode="External"/><Relationship Id="rId18" Type="http://schemas.openxmlformats.org/officeDocument/2006/relationships/hyperlink" Target="http://www.mir.es/SGACAVT/extranje/" TargetMode="External"/><Relationship Id="rId19" Type="http://schemas.openxmlformats.org/officeDocument/2006/relationships/hyperlink" Target="http://www.mir.es/SGACAVT/extranje/" TargetMode="External"/><Relationship Id="rId20" Type="http://schemas.openxmlformats.org/officeDocument/2006/relationships/hyperlink" Target="http://www.mir.es/SGACAVT/extranje/" TargetMode="External"/><Relationship Id="rId21" Type="http://schemas.openxmlformats.org/officeDocument/2006/relationships/hyperlink" Target="http://www.mir.es/SGACAVT/extranje/" TargetMode="External"/><Relationship Id="rId22" Type="http://schemas.openxmlformats.org/officeDocument/2006/relationships/hyperlink" Target="http://www.map.es/servicios/servicios_on_line/extranjeria.html" TargetMode="External"/><Relationship Id="rId23" Type="http://schemas.openxmlformats.org/officeDocument/2006/relationships/hyperlink" Target="http://www.map.es/servicios/servicios_on_line/extranjeria.html" TargetMode="External"/><Relationship Id="rId24" Type="http://schemas.openxmlformats.org/officeDocument/2006/relationships/hyperlink" Target="http://www.map.es/servicios/servicios_on_line/extranjeria.html" TargetMode="External"/><Relationship Id="rId25" Type="http://schemas.openxmlformats.org/officeDocument/2006/relationships/hyperlink" Target="http://www.map.es/servicios/servicios_on_line/extranjeria.html" TargetMode="External"/><Relationship Id="rId26" Type="http://schemas.openxmlformats.org/officeDocument/2006/relationships/hyperlink" Target="http://www.map.es/servicios/servicios_on_line/extranjeria.html" TargetMode="External"/><Relationship Id="rId27" Type="http://schemas.openxmlformats.org/officeDocument/2006/relationships/hyperlink" Target="http://www.map.es/servicios/servicios_on_line/extranjeria.html" TargetMode="External"/><Relationship Id="rId28" Type="http://schemas.openxmlformats.org/officeDocument/2006/relationships/hyperlink" Target="http://www.map.es/servicios/servicios_on_line/extranjeria.html" TargetMode="External"/><Relationship Id="rId2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osrecursoshumanos.com/derecho-laboral.htm" TargetMode="External"/><Relationship Id="rId2" Type="http://schemas.openxmlformats.org/officeDocument/2006/relationships/hyperlink" Target="http://www.losrecursoshumanos.com/derecho-laboral.htm" TargetMode="External"/><Relationship Id="rId3" Type="http://schemas.openxmlformats.org/officeDocument/2006/relationships/hyperlink" Target="http://www.losrecursoshumanos.com/derecho-laboral.htm" TargetMode="External"/><Relationship Id="rId4" Type="http://schemas.openxmlformats.org/officeDocument/2006/relationships/hyperlink" Target="http://www.losrecursoshumanos.com/derecho-laboral.htm" TargetMode="External"/><Relationship Id="rId5" Type="http://schemas.openxmlformats.org/officeDocument/2006/relationships/hyperlink" Target="http://www.losrecursoshumanos.com/derecho-laboral.htm" TargetMode="External"/><Relationship Id="rId6" Type="http://schemas.openxmlformats.org/officeDocument/2006/relationships/hyperlink" Target="http://www.mtas.es/Guia/es/entrada.htm" TargetMode="External"/><Relationship Id="rId7" Type="http://schemas.openxmlformats.org/officeDocument/2006/relationships/hyperlink" Target="http://www.mtas.es/Guia/es/entrada.htm" TargetMode="External"/><Relationship Id="rId8" Type="http://schemas.openxmlformats.org/officeDocument/2006/relationships/hyperlink" Target="http://www.mtas.es/Guia/es/entrada.htm" TargetMode="External"/><Relationship Id="rId9" Type="http://schemas.openxmlformats.org/officeDocument/2006/relationships/hyperlink" Target="http://www.mtas.es/Guia/es/entrada.htm" TargetMode="External"/><Relationship Id="rId10" Type="http://schemas.openxmlformats.org/officeDocument/2006/relationships/hyperlink" Target="http://www.mtas.es/Guia/es/entrada.htm" TargetMode="External"/><Relationship Id="rId11" Type="http://schemas.openxmlformats.org/officeDocument/2006/relationships/hyperlink" Target="http://www.mtas.es/Guia/es/entrada.htm" TargetMode="External"/><Relationship Id="rId12" Type="http://schemas.openxmlformats.org/officeDocument/2006/relationships/hyperlink" Target="http://www.mtas.es/Guia/es/entrada.htm" TargetMode="External"/><Relationship Id="rId13" Type="http://schemas.openxmlformats.org/officeDocument/2006/relationships/hyperlink" Target="http://www.abog.net/html/info_diccionarios.asp" TargetMode="External"/><Relationship Id="rId14" Type="http://schemas.openxmlformats.org/officeDocument/2006/relationships/hyperlink" Target="http://www.abog.net/html/info_diccionarios.asp" TargetMode="External"/><Relationship Id="rId15" Type="http://schemas.openxmlformats.org/officeDocument/2006/relationships/hyperlink" Target="http://www.abog.net/html/info_diccionarios.asp" TargetMode="External"/><Relationship Id="rId16" Type="http://schemas.openxmlformats.org/officeDocument/2006/relationships/hyperlink" Target="http://www.abog.net/html/info_diccionarios.asp" TargetMode="External"/><Relationship Id="rId17" Type="http://schemas.openxmlformats.org/officeDocument/2006/relationships/hyperlink" Target="http://www.abog.net/html/info_diccionarios.asp" TargetMode="External"/><Relationship Id="rId18" Type="http://schemas.openxmlformats.org/officeDocument/2006/relationships/hyperlink" Target="http://www.abog.net/html/info_diccionarios.asp" TargetMode="External"/><Relationship Id="rId19" Type="http://schemas.openxmlformats.org/officeDocument/2006/relationships/hyperlink" Target="http://www.abog.net/html/info_diccionarios.asp" TargetMode="External"/><Relationship Id="rId20" Type="http://schemas.openxmlformats.org/officeDocument/2006/relationships/hyperlink" Target="http://www.tuguialegal.com/portaljuridico.htm" TargetMode="External"/><Relationship Id="rId21" Type="http://schemas.openxmlformats.org/officeDocument/2006/relationships/hyperlink" Target="http://www.tuguialegal.com/portaljuridico.htm" TargetMode="External"/><Relationship Id="rId22" Type="http://schemas.openxmlformats.org/officeDocument/2006/relationships/hyperlink" Target="http://www.tuguialegal.com/portaljuridico.htm" TargetMode="External"/><Relationship Id="rId23" Type="http://schemas.openxmlformats.org/officeDocument/2006/relationships/hyperlink" Target="http://www.tuguialegal.com/portaljuridico.htm" TargetMode="External"/><Relationship Id="rId24" Type="http://schemas.openxmlformats.org/officeDocument/2006/relationships/hyperlink" Target="http://www.tuguialegal.com/portaljuridico.htm" TargetMode="External"/><Relationship Id="rId25" Type="http://schemas.openxmlformats.org/officeDocument/2006/relationships/hyperlink" Target="http://www.tuguialegal.com/directorioweb.htm" TargetMode="External"/><Relationship Id="rId26" Type="http://schemas.openxmlformats.org/officeDocument/2006/relationships/hyperlink" Target="http://www.tuguialegal.com/directorioweb.htm" TargetMode="External"/><Relationship Id="rId27" Type="http://schemas.openxmlformats.org/officeDocument/2006/relationships/hyperlink" Target="http://www.tuguialegal.com/directorioweb.htm" TargetMode="External"/><Relationship Id="rId28" Type="http://schemas.openxmlformats.org/officeDocument/2006/relationships/hyperlink" Target="http://www.tuguialegal.com/directorioweb.htm" TargetMode="External"/><Relationship Id="rId29" Type="http://schemas.openxmlformats.org/officeDocument/2006/relationships/hyperlink" Target="http://www.tuguialegal.com/directorioweb.htm" TargetMode="External"/><Relationship Id="rId3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uroavocatura.ro/" TargetMode="External"/><Relationship Id="rId2" Type="http://schemas.openxmlformats.org/officeDocument/2006/relationships/hyperlink" Target="http://www.euroavocatura.ro/" TargetMode="External"/><Relationship Id="rId3" Type="http://schemas.openxmlformats.org/officeDocument/2006/relationships/hyperlink" Target="http://www.euroavocatura.ro/" TargetMode="External"/><Relationship Id="rId4" Type="http://schemas.openxmlformats.org/officeDocument/2006/relationships/hyperlink" Target="http://www.euroavocatura.ro/" TargetMode="External"/><Relationship Id="rId5" Type="http://schemas.openxmlformats.org/officeDocument/2006/relationships/hyperlink" Target="http://www.e-juridic.ro/index.php" TargetMode="External"/><Relationship Id="rId6" Type="http://schemas.openxmlformats.org/officeDocument/2006/relationships/hyperlink" Target="http://www.e-juridic.ro/index.php" TargetMode="External"/><Relationship Id="rId7" Type="http://schemas.openxmlformats.org/officeDocument/2006/relationships/hyperlink" Target="http://www.dsclex.ro/meniu_r.htm" TargetMode="External"/><Relationship Id="rId8" Type="http://schemas.openxmlformats.org/officeDocument/2006/relationships/hyperlink" Target="http://www.dsclex.ro/meniu_r.htm" TargetMode="External"/><Relationship Id="rId9" Type="http://schemas.openxmlformats.org/officeDocument/2006/relationships/hyperlink" Target="http://www.dsclex.ro/meniu_r.htm" TargetMode="External"/><Relationship Id="rId10" Type="http://schemas.openxmlformats.org/officeDocument/2006/relationships/hyperlink" Target="http://www.dsclex.ro/meniu_r.htm" TargetMode="External"/><Relationship Id="rId11" Type="http://schemas.openxmlformats.org/officeDocument/2006/relationships/hyperlink" Target="http://www.dreptonline.ro/" TargetMode="External"/><Relationship Id="rId12" Type="http://schemas.openxmlformats.org/officeDocument/2006/relationships/hyperlink" Target="http://www.avocatulstagiar.ro/index.htm" TargetMode="External"/><Relationship Id="rId13" Type="http://schemas.openxmlformats.org/officeDocument/2006/relationships/hyperlink" Target="http://www.avocatulstagiar.ro/index.htm" TargetMode="External"/><Relationship Id="rId14" Type="http://schemas.openxmlformats.org/officeDocument/2006/relationships/hyperlink" Target="http://avocatura.xhost.ro/index.html" TargetMode="External"/><Relationship Id="rId15" Type="http://schemas.openxmlformats.org/officeDocument/2006/relationships/hyperlink" Target="http://avocatura.xhost.ro/index.html" TargetMode="External"/><Relationship Id="rId16" Type="http://schemas.openxmlformats.org/officeDocument/2006/relationships/hyperlink" Target="http://avocatura.xhost.ro/index.html" TargetMode="External"/><Relationship Id="rId17" Type="http://schemas.openxmlformats.org/officeDocument/2006/relationships/hyperlink" Target="http://avocatura.xhost.ro/index.html" TargetMode="External"/><Relationship Id="rId18" Type="http://schemas.openxmlformats.org/officeDocument/2006/relationships/hyperlink" Target="http://avocatura.xhost.ro/index.html" TargetMode="External"/><Relationship Id="rId1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aps.mai.gov.ro/" TargetMode="External"/><Relationship Id="rId2" Type="http://schemas.openxmlformats.org/officeDocument/2006/relationships/hyperlink" Target="http://www.mae.ro/index.php?unde=doc&amp;id=5807" TargetMode="External"/><Relationship Id="rId3" Type="http://schemas.openxmlformats.org/officeDocument/2006/relationships/hyperlink" Target="http://www.mae.ro/index.php?unde=doc&amp;id=5807" TargetMode="External"/><Relationship Id="rId4" Type="http://schemas.openxmlformats.org/officeDocument/2006/relationships/hyperlink" Target="http://www.mae.ro/index.php?unde=doc&amp;id=5807" TargetMode="External"/><Relationship Id="rId5" Type="http://schemas.openxmlformats.org/officeDocument/2006/relationships/hyperlink" Target="http://www.mae.ro/index.php?unde=doc&amp;id=5807" TargetMode="External"/><Relationship Id="rId6" Type="http://schemas.openxmlformats.org/officeDocument/2006/relationships/hyperlink" Target="http://www.mae.ro/index.php?unde=doc&amp;id=5807" TargetMode="External"/><Relationship Id="rId7" Type="http://schemas.openxmlformats.org/officeDocument/2006/relationships/hyperlink" Target="http://www.mmssf.ro/website/ro/" TargetMode="External"/><Relationship Id="rId8" Type="http://schemas.openxmlformats.org/officeDocument/2006/relationships/hyperlink" Target="http://www.legislatiamuncii.ro/index.php?pag=pages&amp;id=1" TargetMode="External"/><Relationship Id="rId9" Type="http://schemas.openxmlformats.org/officeDocument/2006/relationships/hyperlink" Target="http://www.inspectiamuncii.ro/ghid/ic/indexaz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rubinian.com/dictionar_cuvinte.php?param=A" TargetMode="External"/><Relationship Id="rId2" Type="http://schemas.openxmlformats.org/officeDocument/2006/relationships/hyperlink" Target="http://www.rubinian.com/dictionar_cuvinte.php?param=A" TargetMode="External"/><Relationship Id="rId3" Type="http://schemas.openxmlformats.org/officeDocument/2006/relationships/hyperlink" Target="http://www.avoconsult.ro/dictionare.html" TargetMode="External"/><Relationship Id="rId4" Type="http://schemas.openxmlformats.org/officeDocument/2006/relationships/hyperlink" Target="http://www.avoconsult.ro/dictionare.html" TargetMode="External"/><Relationship Id="rId5" Type="http://schemas.openxmlformats.org/officeDocument/2006/relationships/hyperlink" Target="http://www.advocate.ro/cabinet_avocat_dictionar_juridic" TargetMode="External"/><Relationship Id="rId6" Type="http://schemas.openxmlformats.org/officeDocument/2006/relationships/hyperlink" Target="http://www.advocate.ro/cabinet_avocat_dictionar_juridic" TargetMode="External"/><Relationship Id="rId7" Type="http://schemas.openxmlformats.org/officeDocument/2006/relationships/hyperlink" Target="http://www.advocate.ro/cabinet_avocat_dictionar_juridic" TargetMode="External"/><Relationship Id="rId8" Type="http://schemas.openxmlformats.org/officeDocument/2006/relationships/hyperlink" Target="http://www.advocate.ro/cabinet_avocat_dictionar_juridic" TargetMode="External"/><Relationship Id="rId9" Type="http://schemas.openxmlformats.org/officeDocument/2006/relationships/hyperlink" Target="http://www.advocate.ro/cabinet_avocat_dictionar_juridic" TargetMode="External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ec.es/educa/sistema-educativo/logse/siseduc.html" TargetMode="External"/><Relationship Id="rId2" Type="http://schemas.openxmlformats.org/officeDocument/2006/relationships/hyperlink" Target="http://www.educaweb.com/edw/seccion.asp?sec=2" TargetMode="External"/><Relationship Id="rId3" Type="http://schemas.openxmlformats.org/officeDocument/2006/relationships/hyperlink" Target="http://www.educarm.es/templates/portal/images/ficheros/diversidad/6/secciones/74/contenidos/426/_espanol.pdf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itforeurope.info/webcom/show_page_ffee.php?wc_c=19699&amp;wc_id=1&amp;wc_lkm=106436&amp;PHPSESSID=ba9c1dd" TargetMode="External"/><Relationship Id="rId2" Type="http://schemas.openxmlformats.org/officeDocument/2006/relationships/hyperlink" Target="http://www.fitforeurope.info/webcom/show_page_ffee.php?wc_c=19699&amp;wc_id=1&amp;wc_lkm=106436&amp;PHPSESSID=ba9c1dd" TargetMode="External"/><Relationship Id="rId3" Type="http://schemas.openxmlformats.org/officeDocument/2006/relationships/hyperlink" Target="http://www.edu.ro/index.php" TargetMode="External"/><Relationship Id="rId4" Type="http://schemas.openxmlformats.org/officeDocument/2006/relationships/hyperlink" Target="http://www.old.edu.ro/preu_struct.html" TargetMode="External"/><Relationship Id="rId5" Type="http://schemas.openxmlformats.org/officeDocument/2006/relationships/hyperlink" Target="http://www.old.edu.ro/preu_struct.html" TargetMode="External"/><Relationship Id="rId6" Type="http://schemas.openxmlformats.org/officeDocument/2006/relationships/hyperlink" Target="http://www.old.edu.ro/preu_struct.html" TargetMode="External"/><Relationship Id="rId7" Type="http://schemas.openxmlformats.org/officeDocument/2006/relationships/hyperlink" Target="http://www.old.edu.ro/preu_struct.html" TargetMode="External"/><Relationship Id="rId8" Type="http://schemas.openxmlformats.org/officeDocument/2006/relationships/hyperlink" Target="http://www.old.edu.ro/preu_struct.html" TargetMode="External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rae.rae.es/" TargetMode="External"/><Relationship Id="rId2" Type="http://schemas.openxmlformats.org/officeDocument/2006/relationships/hyperlink" Target="http://www.diccionarios.com/" TargetMode="External"/><Relationship Id="rId3" Type="http://schemas.openxmlformats.org/officeDocument/2006/relationships/hyperlink" Target="http://www.diccionarios.com/" TargetMode="External"/><Relationship Id="rId4" Type="http://schemas.openxmlformats.org/officeDocument/2006/relationships/hyperlink" Target="http://www.diccionarios.com/" TargetMode="External"/><Relationship Id="rId5" Type="http://schemas.openxmlformats.org/officeDocument/2006/relationships/hyperlink" Target="http://www.diccionarios.com/" TargetMode="External"/><Relationship Id="rId6" Type="http://schemas.openxmlformats.org/officeDocument/2006/relationships/hyperlink" Target="http://www.elmundo.es/diccionarios/" TargetMode="External"/><Relationship Id="rId7" Type="http://schemas.openxmlformats.org/officeDocument/2006/relationships/hyperlink" Target="http://www.elmundo.es/diccionarios/" TargetMode="External"/><Relationship Id="rId8" Type="http://schemas.openxmlformats.org/officeDocument/2006/relationships/hyperlink" Target="http://dexonline.ro/" TargetMode="External"/><Relationship Id="rId9" Type="http://schemas.openxmlformats.org/officeDocument/2006/relationships/hyperlink" Target="http://www.vocabular.ro/" TargetMode="External"/><Relationship Id="rId10" Type="http://schemas.openxmlformats.org/officeDocument/2006/relationships/hyperlink" Target="http://www.vocabular.ro/" TargetMode="External"/><Relationship Id="rId11" Type="http://schemas.openxmlformats.org/officeDocument/2006/relationships/hyperlink" Target="http://www.vocabular.ro/" TargetMode="External"/><Relationship Id="rId12" Type="http://schemas.openxmlformats.org/officeDocument/2006/relationships/hyperlink" Target="http://www.vocabular.ro/" TargetMode="External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ctionar-online.ro/roman_spaniol.php" TargetMode="External"/><Relationship Id="rId2" Type="http://schemas.openxmlformats.org/officeDocument/2006/relationships/hyperlink" Target="http://www.dictionar-online.ro/roman_spaniol.php" TargetMode="External"/><Relationship Id="rId3" Type="http://schemas.openxmlformats.org/officeDocument/2006/relationships/hyperlink" Target="http://www.dictionar-online.ro/roman_spaniol.php" TargetMode="External"/><Relationship Id="rId4" Type="http://schemas.openxmlformats.org/officeDocument/2006/relationships/hyperlink" Target="http://www.dictionar-online.ro/roman_spaniol.php" TargetMode="External"/><Relationship Id="rId5" Type="http://schemas.openxmlformats.org/officeDocument/2006/relationships/hyperlink" Target="http://www.dictionar-online.ro/roman_spaniol.php" TargetMode="External"/><Relationship Id="rId6" Type="http://schemas.openxmlformats.org/officeDocument/2006/relationships/hyperlink" Target="http://www.dictionar-online.ro/roman_spaniol.php" TargetMode="External"/><Relationship Id="rId7" Type="http://schemas.openxmlformats.org/officeDocument/2006/relationships/hyperlink" Target="http://www.dictionar-online.ro/roman_spaniol.php" TargetMode="External"/><Relationship Id="rId8" Type="http://schemas.openxmlformats.org/officeDocument/2006/relationships/hyperlink" Target="http://iate.europa.eu/iatediff/" TargetMode="External"/><Relationship Id="rId9" Type="http://schemas.openxmlformats.org/officeDocument/2006/relationships/hyperlink" Target="http://iate.europa.eu/iatediff/" TargetMode="External"/><Relationship Id="rId10" Type="http://schemas.openxmlformats.org/officeDocument/2006/relationships/hyperlink" Target="http://iate.europa.eu/iatediff/" TargetMode="External"/><Relationship Id="rId11" Type="http://schemas.openxmlformats.org/officeDocument/2006/relationships/hyperlink" Target="http://iate.europa.eu/iatediff/" TargetMode="External"/><Relationship Id="rId12" Type="http://schemas.openxmlformats.org/officeDocument/2006/relationships/hyperlink" Target="http://iate.europa.eu/iatediff/" TargetMode="External"/><Relationship Id="rId13" Type="http://schemas.openxmlformats.org/officeDocument/2006/relationships/hyperlink" Target="http://iate.europa.eu/iatediff/" TargetMode="External"/><Relationship Id="rId14" Type="http://schemas.openxmlformats.org/officeDocument/2006/relationships/hyperlink" Target="http://www.tv5.org/TV5Site/alexandria/definition.php" TargetMode="External"/><Relationship Id="rId15" Type="http://schemas.openxmlformats.org/officeDocument/2006/relationships/hyperlink" Target="http://www.tv5.org/TV5Site/alexandria/definition.php" TargetMode="External"/><Relationship Id="rId16" Type="http://schemas.openxmlformats.org/officeDocument/2006/relationships/hyperlink" Target="http://www.tv5.org/TV5Site/alexandria/definition.php" TargetMode="External"/><Relationship Id="rId17" Type="http://schemas.openxmlformats.org/officeDocument/2006/relationships/hyperlink" Target="http://www.tv5.org/TV5Site/alexandria/definition.php" TargetMode="External"/><Relationship Id="rId18" Type="http://schemas.openxmlformats.org/officeDocument/2006/relationships/hyperlink" Target="http://www.tv5.org/TV5Site/alexandria/definition.php" TargetMode="External"/><Relationship Id="rId19" Type="http://schemas.openxmlformats.org/officeDocument/2006/relationships/hyperlink" Target="http://www.tv5.org/TV5Site/alexandria/definition.php" TargetMode="External"/><Relationship Id="rId20" Type="http://schemas.openxmlformats.org/officeDocument/2006/relationships/hyperlink" Target="http://www.tv5.org/TV5Site/alexandria/definition.php" TargetMode="External"/><Relationship Id="rId21" Type="http://schemas.openxmlformats.org/officeDocument/2006/relationships/hyperlink" Target="http://www.tv5.org/TV5Site/alexandria/definition.php" TargetMode="External"/><Relationship Id="rId22" Type="http://schemas.openxmlformats.org/officeDocument/2006/relationships/hyperlink" Target="http://www.tv5.org/TV5Site/alexandria/definition.php" TargetMode="External"/><Relationship Id="rId23" Type="http://schemas.openxmlformats.org/officeDocument/2006/relationships/hyperlink" Target="http://www.tv5.org/TV5Site/alexandria/definition.php" TargetMode="External"/><Relationship Id="rId24" Type="http://schemas.openxmlformats.org/officeDocument/2006/relationships/hyperlink" Target="http://www.tv5.org/TV5Site/alexandria/definition.php" TargetMode="External"/><Relationship Id="rId25" Type="http://schemas.openxmlformats.org/officeDocument/2006/relationships/hyperlink" Target="http://www.dictionar.us/roman-spaniol/" TargetMode="External"/><Relationship Id="rId26" Type="http://schemas.openxmlformats.org/officeDocument/2006/relationships/hyperlink" Target="http://www.dictionar.us/roman-spaniol/" TargetMode="External"/><Relationship Id="rId27" Type="http://schemas.openxmlformats.org/officeDocument/2006/relationships/hyperlink" Target="http://www.dictionar.us/roman-spaniol/" TargetMode="External"/><Relationship Id="rId28" Type="http://schemas.openxmlformats.org/officeDocument/2006/relationships/hyperlink" Target="http://www.dictionar.us/roman-spaniol/" TargetMode="External"/><Relationship Id="rId29" Type="http://schemas.openxmlformats.org/officeDocument/2006/relationships/hyperlink" Target="http://www.dictionar.us/roman-spaniol/" TargetMode="External"/><Relationship Id="rId30" Type="http://schemas.openxmlformats.org/officeDocument/2006/relationships/hyperlink" Target="http://www.dictionar.us/roman-spaniol/" TargetMode="External"/><Relationship Id="rId31" Type="http://schemas.openxmlformats.org/officeDocument/2006/relationships/hyperlink" Target="http://www.dictionar.us/roman-spaniol/" TargetMode="External"/><Relationship Id="rId32" Type="http://schemas.openxmlformats.org/officeDocument/2006/relationships/hyperlink" Target="http://www.dictionar.us/roman-spaniol/" TargetMode="External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ctionar.ro/" TargetMode="External"/><Relationship Id="rId2" Type="http://schemas.openxmlformats.org/officeDocument/2006/relationships/hyperlink" Target="http://www.dictionar.ro/" TargetMode="External"/><Relationship Id="rId3" Type="http://schemas.openxmlformats.org/officeDocument/2006/relationships/hyperlink" Target="http://www.dictionar.ro/" TargetMode="External"/><Relationship Id="rId4" Type="http://schemas.openxmlformats.org/officeDocument/2006/relationships/hyperlink" Target="http://www.dictionar.ro/" TargetMode="External"/><Relationship Id="rId5" Type="http://schemas.openxmlformats.org/officeDocument/2006/relationships/hyperlink" Target="http://www.dictionar-roman.com/" TargetMode="External"/><Relationship Id="rId6" Type="http://schemas.openxmlformats.org/officeDocument/2006/relationships/hyperlink" Target="http://www.dictionar-roman.com/" TargetMode="External"/><Relationship Id="rId7" Type="http://schemas.openxmlformats.org/officeDocument/2006/relationships/hyperlink" Target="http://www.dictionar-roman.com/" TargetMode="External"/><Relationship Id="rId8" Type="http://schemas.openxmlformats.org/officeDocument/2006/relationships/hyperlink" Target="http://www.dictionar-roman.com/" TargetMode="External"/><Relationship Id="rId9" Type="http://schemas.openxmlformats.org/officeDocument/2006/relationships/hyperlink" Target="http://www.dictionar-roman.com/" TargetMode="External"/><Relationship Id="rId10" Type="http://schemas.openxmlformats.org/officeDocument/2006/relationships/hyperlink" Target="http://www.dictionar-roman.com/" TargetMode="Externa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ranslation.langenberg.com/" TargetMode="External"/><Relationship Id="rId2" Type="http://schemas.openxmlformats.org/officeDocument/2006/relationships/hyperlink" Target="http://translation.langenberg.com/" TargetMode="External"/><Relationship Id="rId3" Type="http://schemas.openxmlformats.org/officeDocument/2006/relationships/hyperlink" Target="http://www.tranexp.com:2000/Translate/result.shtml" TargetMode="External"/><Relationship Id="rId4" Type="http://schemas.openxmlformats.org/officeDocument/2006/relationships/hyperlink" Target="http://www.tranexp.com:2000/Translate/result.shtml" TargetMode="External"/><Relationship Id="rId5" Type="http://schemas.openxmlformats.org/officeDocument/2006/relationships/hyperlink" Target="http://www.tranexp.com:2000/Translate/result.shtml" TargetMode="External"/><Relationship Id="rId6" Type="http://schemas.openxmlformats.org/officeDocument/2006/relationships/hyperlink" Target="http://www.tranexp.com:2000/Translate/result.shtml" TargetMode="External"/><Relationship Id="rId7" Type="http://schemas.openxmlformats.org/officeDocument/2006/relationships/hyperlink" Target="http://www.tranexp.com:2000/Translate/result.shtml" TargetMode="External"/><Relationship Id="rId8" Type="http://schemas.openxmlformats.org/officeDocument/2006/relationships/hyperlink" Target="http://www.tranexp.com:2000/Translate/result.shtml" TargetMode="External"/><Relationship Id="rId9" Type="http://schemas.openxmlformats.org/officeDocument/2006/relationships/hyperlink" Target="http://www.tranexp.com:2000/Translate/result.shtml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Recursos online para la T&amp;ISSPP </a:t>
            </a:r>
            <a:br>
              <a:rPr sz="2800"/>
            </a:br>
            <a:r>
              <a:rPr b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español-rumano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ianca Vitala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niversidad de Alcal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1 Recursos ámbito sanitario españo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 Información gener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ada uno incluye también un diccionario médi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línica Universitaria De Navar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cun.es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index.php?id=91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uena Sal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www.buenasalud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/dic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mpus Sal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www.campusred.net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campusalud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/listados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lista_glosario.asp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Recursos de carácter lexicográf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ciclopedia Medline Pl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www.nlm.nih.gov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medlineplus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spanish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encyclopedia.html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AM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ciclopedia Ilust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8"/>
              </a:rPr>
              <a:t>www.averamckennan.org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9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0"/>
              </a:rPr>
              <a:t>ah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1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2"/>
              </a:rPr>
              <a:t>healthinf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3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4"/>
              </a:rPr>
              <a:t>enciclopedia.a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2 Recursos ámbito sanitario rum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 Información gener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omedic.Ro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romedic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fatul Medicului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://www.sfatulmedicului.ro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farm.Ro Farmacia Online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www.pcfarm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articole.php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Recursos lexico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cicopedie Medicala (Enciclopedia Médica)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www.emedonline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fatul Medicului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www.sfatulmedicului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Dictionar_medical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dikal.Ro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www.medikal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dictionarmedical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ccionario Médico Online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8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9"/>
              </a:rPr>
              <a:t>www.dmo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0"/>
              </a:rPr>
              <a:t>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ciclopedia Healthy (Enciclopedia Healthy)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2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3"/>
              </a:rPr>
              <a:t>www.healthy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4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5"/>
              </a:rPr>
              <a:t>articol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6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7"/>
              </a:rPr>
              <a:t>Enciclopedie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8"/>
              </a:rPr>
              <a:t>-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9"/>
              </a:rPr>
              <a:t>medicala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 Recursos ámbito jurídico-administrativo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línea de separación entre los dos ámbitos es muy f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incluyen por separado recursos administrativos y juríd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768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768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0" dur="768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2" dur="768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1a) Recursos ámbito administrativo españo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Presentación del sistema administrativo españ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dministración Pública 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map.es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index.htm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dministracion.es 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://www.060.es/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www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.060.es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guia_del_estad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index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-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ides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-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idweb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 Glosario Administrativo. Cantab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www.gobcantabria.es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/portal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page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?_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pageid=33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,50875&amp;_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dad=interportal&amp;_schema=INTERPORT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gran cantidad de términos y definiciones muy precisas y concret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ccecff"/>
                </a:solidFill>
                <a:latin typeface="Arial"/>
              </a:rPr>
              <a:t>4.1 b) Recursos ámbito administrativo rumano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Presentación sistema administrativo r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entación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burseguvern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download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Prezentarea%20administratiei%20publice%20romanesti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.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pdf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dministración pública local rumana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http://www.mapl.gov.md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/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inisterio del Interior y de la Reforma Administrativ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“Ministerul Internelor si al Reformei Administrative”)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http://www.mira.gov.ro/Home/index.htm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 Diccionario de la Administración Públ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(“Dictionar al Administratiei Public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www.dictionar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.1web.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4.2 Recursos ámbito jurídic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r la dificultad de este tipo de traducción especializada se incluyen una serie de páginas web que incluye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formación gen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egis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elos de docu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cursos lexico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den por import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2 a) Recursos ámbito jurídico españo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 Información general todas las ramas del dere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rtico Legal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www.porticolegal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ABOGADO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iabogado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XJURIDICA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www.lexjuridica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Extranjerí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xtranjería: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conpapeles.com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www.conpapeles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glosario_juridico.php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(glosario de utilid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nisterio de Interior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www.mir.es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/SGACAVT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extranje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nisterio de la Administración pública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www.map.es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/servicios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servicios_on_line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8"/>
              </a:rPr>
              <a:t>extranjeria.htm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ccecff"/>
                </a:solidFill>
                <a:latin typeface="Arial"/>
              </a:rPr>
              <a:t>4.2 a) Recursos ámbito jurídico español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Ámbito 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ursos humanos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losrecursoshumanos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derecho-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laboral.htm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legislació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y Laboral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laleylaboral.com/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nisterio de Trabajo y Asuntos Sociales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www.mtas.es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Guia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/es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entrada.htm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. Recursos lexicográf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bog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www.abog.net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html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info_diccionarios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u Guía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rectorio Web Portales y Recursos Jurídicos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www.tuguialegal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portaljuridico.htm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www.tuguialegal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8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9"/>
              </a:rPr>
              <a:t>directorioweb.htm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2 b) Recursos ámbito jurídico rum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Información general todas las ramas del der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uro Avocatura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euroavocatura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E-Juridic.Ro: </a:t>
            </a:r>
            <a:r>
              <a:rPr b="0" i="1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http</a:t>
            </a:r>
            <a:r>
              <a:rPr b="0" i="1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://www.e-juridic.ro/index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SC Lex.: </a:t>
            </a:r>
            <a:r>
              <a:rPr b="0" lang="fr-FR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fr-FR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www.dsclex.ro</a:t>
            </a:r>
            <a:r>
              <a:rPr b="0" lang="fr-FR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/</a:t>
            </a:r>
            <a:r>
              <a:rPr b="0" lang="fr-FR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meniu_r.htm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rept Online.Ro: </a:t>
            </a:r>
            <a:r>
              <a:rPr b="0" lang="en-GB" sz="20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http://www.dreptonline.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vocatul Stagiar.Ro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://www.avocatulstagiar.ro/index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vocatura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avocatura.xhost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index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2 b) Recursos ámbito jurídico rum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Extranj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ficina Rumana de Inmigración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aps.mai.gov.r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nisterio de Asuntos Exteriores rumano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www.mae.ro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index.php?unde=doc&amp;id=5807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Ámbito 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nisterio de Trabajo, Familia e Igualdad de Oportunidades (“Ministerul Muncii, Familiei si Egalitatii de Sanse”)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://www.mmssf.ro/website/ro/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gislación laboral (“Legislatia muncii”)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http://www.legislatiamuncii.ro/index.php?pag=pages&amp;id=1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spección laboral (“Inspectia muncii”)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http://www.inspectiamuncii.ro/ghid/ic/indexaz.html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(guí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Arial"/>
              </a:rPr>
              <a:t>1. Introducció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l propósito de este trabajo es 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seleccionar y evaluar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los recursos y herramientas online disponibles para traductores de la combinación español-rumano en diferentes ámbitos de los Servicios Públicos: sanitario, jurídico-administrativo, educativo u otr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La elección de este tema se basa en una serie de conclusiones a las que he llegado como resultado de mis investigaciones y experiencia como traductora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    la escasez de recursos bilingües en la combinación español-rumano a los que los traductores o los alumnos en formación en este campo pueden acudi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gran necesidad de diferentes tipos de recursos para facilitar y mejorar considerablemente la calidad de las traduc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or lo tanto nos proponemo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    por un lado la recopilación de los mejores diccionarios bilingües generales (en la primera parte de este trabaj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    por otro lado la evaluación de los recursos especializados monolingües a los que pueden recurrir para resolver cualquier tipo de duda o dificultades que puedan surgir (la segunda parte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2 b) Recursos ámbito jurídico rum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Recursos lexicográf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cionario Rubini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www.rubinian.com/dictionar_cuvinte.php?param=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vocon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://www.avoconsult.ro/dictionar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vocate.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www.advocate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cabinet_avocat_dictionar_juridic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5. Recursos ámbito educativ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5.1 Recursos ámbito educativo españo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Descripción general del sistema educativo españ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inisterio de Educación y Ci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mec.es/educa/sistema-educativo/logse/siseduc.htm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duca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://www.educaweb.com/edw/seccion.asp?sec=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 Gu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uía del Sistema educativo multilingüe. Mur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://www.educarm.es/templates/portal/images/ficheros/diversidad/6/secciones/74/contenidos/426/_espanol.pdf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4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9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4" dur="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9" dur="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5.2 Recursos ámbito educativo ruma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Descripción general del sistema educativo r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it for Eur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www.fitforeurope.info/webcom/show_page_ffee.php?wc_c=19699&amp;wc_id=1&amp;wc_lkm=106436&amp;PHPSESSID=ba9c1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inisterio de Educación e Investigación (Ministerul Educatiei si Cercetari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edu.ro/index.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www.old.edu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preu_struct.htm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(versión antigu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6. 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ran necesidad de recursos para traduc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alta de recursos especializados en esta combinación de lengu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istencia de diccionarios bilingües generales, pero con muchas defici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luciones para los traducto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tilizar recursos monolingü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aborar y utilizar sus propias bases de da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erramientas CAT, de localización y gest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r en la elaboración de recursos lexicográficos especializ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98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898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898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898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98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898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898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898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898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2. Recurso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2. Recurso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 Diccionarios monolingü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A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drae.rae.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cionari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www.diccionarios.com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cionarios El Mund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www.elmundo.es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/diccionarios/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cionario Explicativo de la lengua ruma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http://dexonline.r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ocabulario ruma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www.vocabular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/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incluye, además del diccionario de la lengua moderna, una serie de otros diccionarios- de neologismos, de sinónimos y antónimos, morfológicos, ortográfico, etimológico, de  arcaísmos y regionalismos, etc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2. Recursos general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4739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ccionarios bilingüe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tionar-Online.R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Español-rumano-españ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dictionar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-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online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roman_spaniol.php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AT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Inter-Active Terminology for Europe, 24 lenguas europeas, rumano y español incluid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iate.europa.eu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iatediff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/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V5 Monde Alexand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www.tv5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.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8"/>
              </a:rPr>
              <a:t>org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9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0"/>
              </a:rPr>
              <a:t>TV5Site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1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2"/>
              </a:rPr>
              <a:t>alexandria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3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4"/>
              </a:rPr>
              <a:t>definition.php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tionar.U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Muchísimas combinaciones de lenguas con el rumano)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5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6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7"/>
              </a:rPr>
              <a:t>www.dictionar.us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8"/>
              </a:rPr>
              <a:t>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9"/>
              </a:rPr>
              <a:t>roman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0"/>
              </a:rPr>
              <a:t>-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1"/>
              </a:rPr>
              <a:t>spaniol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2"/>
              </a:rPr>
              <a:t>/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2. Recursos generale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 Diccionarios bilingües (segunda par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tionar.R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Multilingüe: español-rumano-inglés-francés-italiano-alemán): 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dictionar.ro</a:t>
            </a:r>
            <a:r>
              <a:rPr b="0" lang="es-ES" sz="20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/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ctionar-Roman.Com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Multilingüe: rumano, español, ingles, francés, italiano, alemán, latían, griego, turco, japonés, árabe, portugués, etc.): </a:t>
            </a:r>
            <a:r>
              <a:rPr b="0" lang="es-ES_tradnl" sz="20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http</a:t>
            </a:r>
            <a:r>
              <a:rPr b="0" lang="es-ES_tradnl" sz="20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://</a:t>
            </a:r>
            <a:r>
              <a:rPr b="0" lang="es-ES_tradnl" sz="20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www.dictionar</a:t>
            </a:r>
            <a:r>
              <a:rPr b="0" lang="es-ES_tradnl" sz="20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-</a:t>
            </a:r>
            <a:r>
              <a:rPr b="0" lang="es-ES_tradnl" sz="20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roman.com</a:t>
            </a:r>
            <a:r>
              <a:rPr b="0" lang="es-ES_tradnl" sz="20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/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ctionary.4romania.Com: http://dictionary.4romania.com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宋体"/>
              </a:rPr>
              <a:t>Everest Dictionar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宋体"/>
              </a:rPr>
              <a:t> (diccionario que se puede descargar)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宋体"/>
              </a:rPr>
              <a:t>http://www.free-soft.ro/everest/everest.htm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tolang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宋体"/>
              </a:rPr>
              <a:t>http://www.langtolang.com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宋体"/>
              </a:rPr>
              <a:t>Lexicool: http://www.lexicool.com/dicts-info-universal-free-dictionary-project.as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Arial"/>
              </a:rPr>
              <a:t>2. Recursos generales</a:t>
            </a:r>
            <a:r>
              <a:rPr b="0" lang="es-ES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. Otras herrami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s de traducción auto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tilidad muy baja ya que nos encontramos con traducciones defici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en la identificación de los diferentes significados de las palabras, errores léxicos y gramaticales, número reducido de palabras identificada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ngenberg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://translation.langenberg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ucegratis: www.traducegratis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nexp: 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http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:/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tranexp.com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:2000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Translate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/</a:t>
            </a:r>
            <a:r>
              <a:rPr b="0" lang="es-ES" sz="18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result.shtml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utorom: http://xixona.dlsi.ua.es/apertium-www/index.php?id=trautor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ueba de tradu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utorom: traducción rumano-españ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rrores gramaticales, deficiencias léx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u merg la cumparaturi.(Yo voy de compr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*Yo van a cumparatur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ma mea este acasǎ. (Mi madre está en ca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*Madre mía es aca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ebuie sa semnati aceasta chitanta. (Tiene que firmar este recib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*Tener suya semnati esta chita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umneavoastrǎ trebuie sǎ semnati aceastǎ chitantǎ. (Usted tiene que firmar este recib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*Dumneavoastrǎ tiene sǎ semnati aceastǎ chitant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3. Recursos ámbito sanitar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campo de la traducción especializada -concretamente en el ámbito sanitario- en la combinación español-rumano solamente se han encontrado recursos monolingü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ál es la solución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Trabajar con documentos y recursos monolingü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áles son los recursos de más util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bi</cp:lastModifiedBy>
  <dcterms:modified xsi:type="dcterms:W3CDTF">2008-04-03T00:43:47Z</dcterms:modified>
  <cp:revision>14</cp:revision>
  <dc:subject/>
  <dc:title>PowerPoint Presentation</dc:title>
</cp:coreProperties>
</file>